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658-2B3A-46B7-99A0-9E26B927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78E8-185B-422A-AB07-8A314FEE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45A-510B-467A-B96B-4332EBF6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700-EAF0-4D2A-B925-6F1B22BF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DB82-A04C-421C-BBE8-6065869C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D42-157E-435E-ACEB-47BBB946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2E2-AD15-4ACF-A10C-FA61A126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143-546D-4BA7-8BD3-F18D1AE9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208-057D-4D7E-9CBF-47F74D0B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A29-AF49-4970-9EB2-2D54AD76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0A4-1999-41F5-A000-F92000EB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851-8310-4D33-A1BB-CF1F150F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9237-9710-40FA-953A-81F74514787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B885-FBEF-4471-9687-0D19650F342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uess wh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Aim: identify this historical charac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CuadroTexto"/>
          <p:cNvSpPr/>
          <p:nvPr/>
        </p:nvSpPr>
        <p:spPr>
          <a:xfrm>
            <a:off x="1116000" y="5805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2060"/>
                </a:solidFill>
                <a:latin typeface="Calibri"/>
              </a:rPr>
              <a:t>Adapted from: http://www.tesol-spain.org/newsletter/andrewes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Wrong, try aga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3E74-5B18-4B2F-B79A-900288C0CB3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air-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hoose a famous historical charac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pare a list of clues (Don’t forget to use the past ten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rder them, from the most difficult to the easi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est your partners’ knowled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1708-C296-490D-BD17-0B156A369B7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ub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sk compl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tent and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chanics (Writing and Speak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eam-work (collaborat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rticipation (listens to others, raises hand, answ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41D7-6E5D-471F-BB6C-F35B5937EFF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r 5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2205000"/>
            <a:ext cx="8229600" cy="2332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King probably never exis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6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7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967F-0A12-4241-A911-2070BB88F35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r 4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gends about him became popular in the 12th Century in the literary genre known as Tales of Chival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987D-3850-4F3E-B106-4902B684EBC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r 3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915920"/>
            <a:ext cx="5257800" cy="2693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supposed to have lived in the 6th Century in the South West of Eng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662440" y="1125360"/>
            <a:ext cx="3448080" cy="5399280"/>
          </a:xfrm>
          <a:prstGeom prst="rect">
            <a:avLst/>
          </a:prstGeom>
          <a:ln w="0">
            <a:noFill/>
          </a:ln>
        </p:spPr>
      </p:pic>
      <p:sp>
        <p:nvSpPr>
          <p:cNvPr id="5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16D3-B186-4546-830D-01C2476F568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r 2 point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3280" y="1484280"/>
            <a:ext cx="4043520" cy="4392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les of Chival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not about this King but about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nigh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o served at his Court, democratically seated at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und t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11120" y="3141720"/>
            <a:ext cx="3592440" cy="2787480"/>
          </a:xfrm>
          <a:prstGeom prst="rect">
            <a:avLst/>
          </a:prstGeom>
          <a:ln w="0">
            <a:noFill/>
          </a:ln>
        </p:spPr>
      </p:pic>
      <p:sp>
        <p:nvSpPr>
          <p:cNvPr id="6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53AB-5EBA-43ED-9FCE-43DEB6E79CC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r 1 poi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24000" y="2133720"/>
            <a:ext cx="5049720" cy="259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urt was situated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mel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his most highly favoured knight w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ncelot of the La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12640" y="1628640"/>
            <a:ext cx="3159360" cy="4141800"/>
          </a:xfrm>
          <a:prstGeom prst="rect">
            <a:avLst/>
          </a:prstGeom>
          <a:ln w="0">
            <a:noFill/>
          </a:ln>
        </p:spPr>
      </p:pic>
      <p:sp>
        <p:nvSpPr>
          <p:cNvPr id="6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65CF-1A9E-4000-8263-D00A4F1D80C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 is of course……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74B1-E6BD-4D01-82C2-D1D143C10D2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073240" y="1557360"/>
            <a:ext cx="5235480" cy="3921120"/>
          </a:xfrm>
          <a:prstGeom prst="rect">
            <a:avLst/>
          </a:prstGeom>
          <a:ln w="0">
            <a:noFill/>
          </a:ln>
        </p:spPr>
      </p:pic>
      <p:sp>
        <p:nvSpPr>
          <p:cNvPr id="71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6862-AD4D-42C1-A9D7-8FC059B2DD7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Congratulation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LIL             IES Pedro Jimenez Monto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D77A-9A83-4679-9DFB-D4C911711AD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09:17:18Z</dcterms:created>
  <dc:creator>Pepe</dc:creator>
  <dc:description/>
  <dc:language>en-US</dc:language>
  <cp:lastModifiedBy>Pepe</cp:lastModifiedBy>
  <dcterms:modified xsi:type="dcterms:W3CDTF">2011-08-09T16:09:18Z</dcterms:modified>
  <cp:revision>6</cp:revision>
  <dc:subject/>
  <dc:title>Presentación de PowerPoint</dc:title>
</cp:coreProperties>
</file>